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8E5C-EF7C-482C-BEC6-A5EB1AE9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3966-13EF-4A7B-BB61-2AA9D07F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D1D-5C3F-4A3A-9CEA-C760AD3E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9AE-5D1F-4C98-83D9-1658DFF6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021-F025-40BB-B549-74ECEB78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EF6-ED4A-4CB8-B5F2-0770C162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846-9FCE-49FE-995A-82099FB4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BA4-FFC8-42DA-9A8C-40C83783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A7B-35AC-4AB0-986D-F59B9DA2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F30-7E83-4221-9125-D45C63AB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EC5-4B23-4108-A222-7E8625E0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EC3-1C0B-48E3-946F-0B5A4938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97B-62AD-4E49-ACD7-A113DC3E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C95-33F5-460D-8E9B-F06FE170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3039-51F6-4D0E-8782-D766F04D2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Ocean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1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0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7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9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4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7:53Z</dcterms:modified>
  <cp:revision>118</cp:revision>
  <dc:subject/>
  <dc:title>Museum of World Stuff</dc:title>
</cp:coreProperties>
</file>